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C36-B0CD-48ED-A057-020C5BD0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477-3E73-49A5-9192-A8DAA87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6E2-27F7-4288-86CA-9CDB9912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790-BDAD-4B3E-9A13-8096BE4D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D540-2C95-4477-A121-33447404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C71-B6F3-426F-BB7A-DD123A17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145-F5D8-4DD8-BC25-8AA27DE5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4912-4E3A-4599-B33C-7D182DB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5F0-3F5D-402D-8B22-230E7BFD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3A36-D831-47F2-9D5C-FEEFD8B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E81D-5C7B-4238-8466-2628FE0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DC0-5565-4FF8-928D-73811FC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9A7D-5D3D-4058-B47A-0D3D9BC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E40-B695-4A6D-808D-BA3B8AF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737C-3443-4BAD-890E-DD4EC559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61A4-EAE2-45A4-87D3-3DFA8083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0DC8-E877-4475-B559-A048512C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FA2-89DF-4910-B23D-E338FD7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EEA-7C53-4950-9406-802279AF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9E4-E077-4AF3-A51F-FBF5A72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12E-1A25-47FB-A0C7-F40358CD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B47-B43C-480E-AA1F-F650009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E47-7FA4-4602-97A6-A939DD1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F76-FD2F-447A-9FEC-346D3FD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9EFD-EC0C-4512-B9F8-51C70D4F1A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7FE-B1E0-4701-A278-0D046695AA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0606"/>
                </a:solidFill>
                <a:latin typeface="Arial Unicode MS"/>
              </a:rPr>
              <a:t>МАСТЕР-КЛАСС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Особенности работы со слабомотивированными и неуспевающими обучающимис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Автор: Манченко Иван Серге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учитель биологии и химии МБОУ «Ровеньская основна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080" y="184320"/>
            <a:ext cx="888984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6 КЛАСС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ОБРАЗИЕ ПОКРЫТОСЕМЕННЫХ РАСТЕНИЙ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80" y="1483920"/>
            <a:ext cx="375912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скажи о семействе в Сложноцветных по план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ла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Количество ви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Жизненная фор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Особенности строения цв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Особенности вегетатив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Соцвет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Пл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Представители семей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3886200" y="2114640"/>
            <a:ext cx="51307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6 КЛАСС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ОБРАЗИЕ ПОКРЫТОСЕМЕННЫХ РАСТЕНИЙ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2352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тветить на вопросы, поступившие в редакцию телепередачи «Во саду ли, в огород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ИСЬМ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важаемая редакция! В прошлом год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на была холодная и дождливая, 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мотря на буйное цветение яблонь и груш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х урожай осенью оказался очень низки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чему это произошло? Ответьте, пожалуй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ожно предотвратить повторение подобного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5192640" y="2590920"/>
            <a:ext cx="3783240" cy="2838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2"/>
          <a:stretch/>
        </p:blipFill>
        <p:spPr>
          <a:xfrm>
            <a:off x="457200" y="2146320"/>
            <a:ext cx="28209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7 КЛАСС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ЖИВОТНЫ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Аукцион знаний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а: «Класс Млекопитающие, или Звер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 доске изображения нескольких млекопитающих. Постепенно в ходе игры на основе выявления черт их сходства составляется общая характеристика млекопитающих. Победитель - тот, кто назовёт характерный признак млекопитающих животн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972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6600" y="517320"/>
            <a:ext cx="79308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8 КЛАСС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ЧЕЛОВЕ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левая игр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 приёме у врач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актическая рабо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 оказанию первой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едицинской помощ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 кровотечениях.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Рисунок 2" descr=""/>
          <p:cNvPicPr/>
          <p:nvPr/>
        </p:nvPicPr>
        <p:blipFill>
          <a:blip r:embed="rId1"/>
          <a:stretch/>
        </p:blipFill>
        <p:spPr>
          <a:xfrm>
            <a:off x="3505320" y="2394000"/>
            <a:ext cx="54864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ДАЧ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838080"/>
            <a:ext cx="83408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естили гомозиготного гуся с красными лапами с гомозиготной гусихой с жёлтыми лапами. В первом поколени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гусята получились с красными лапами. Какого расщепления можно ожидать во втором поколени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638360" y="1828800"/>
            <a:ext cx="5867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Моделирование ур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7 клас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«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особы передвижения животных. Полости тел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Ц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- обучающи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формировать знания о способах передвижения животных и их основными характеристика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формировать знания о полости тела и её значении в жизни животны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- развивающи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овать развитию умения делать выводы на основе полученной информ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овать развитию интеллектуальных способностей, логического мышления, навыков познавательной актив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- воспитательны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овать формированию научного мировоззрения и биологической картины ми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овать формированию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ыков работы в групп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112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33cc"/>
                </a:solidFill>
                <a:uFillTx/>
                <a:latin typeface="Arial Unicode MS"/>
              </a:rPr>
              <a:t>7 КЛАСС</a:t>
            </a:r>
            <a:r>
              <a:rPr b="1" lang="ru-RU" sz="3600" spc="-1" strike="noStrike">
                <a:solidFill>
                  <a:srgbClr val="ff33cc"/>
                </a:solidFill>
                <a:latin typeface="Arial Unicode MS"/>
              </a:rPr>
              <a:t> </a:t>
            </a:r>
            <a:r>
              <a:rPr b="1" lang="ru-RU" sz="3600" spc="-1" strike="noStrike" u="sng">
                <a:solidFill>
                  <a:srgbClr val="ff33cc"/>
                </a:solidFill>
                <a:uFillTx/>
                <a:latin typeface="Arial Unicode MS"/>
              </a:rPr>
              <a:t>ЗАДАНИЯ ДЛЯ ГРУПП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91040" y="2868480"/>
          <a:ext cx="4952880" cy="2773440"/>
        </p:xfrm>
        <a:graphic>
          <a:graphicData uri="http://schemas.openxmlformats.org/drawingml/2006/table">
            <a:tbl>
              <a:tblPr/>
              <a:tblGrid>
                <a:gridCol w="2395440"/>
                <a:gridCol w="25574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 передви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е чер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чатые чер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яв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юхоногие моллюс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устворчатые моллюс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воног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ообраз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воночн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новодные, пресмыкающиеся, птицы, млекопитающ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</a:tbl>
          </a:graphicData>
        </a:graphic>
      </p:graphicFrame>
      <p:sp>
        <p:nvSpPr>
          <p:cNvPr id="133" name="Rectangle 5"/>
          <p:cNvSpPr/>
          <p:nvPr/>
        </p:nvSpPr>
        <p:spPr>
          <a:xfrm>
            <a:off x="139680" y="865080"/>
            <a:ext cx="373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 1. Амебоидное движ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читайте текст на странице 199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 чём принцип этого движения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Для каких организмов оно характерно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едставьте результаты своей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 2. Движение при помощи жгутиков и реснич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читайте текст на странице 2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 чём принцип этого движения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Для каких организмов оно характерно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едставьте результаты своей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32960" y="1423440"/>
            <a:ext cx="43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 3. Движение при помощи мыш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читайте текст на странице 2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 чём принцип этого движ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аполните таблиц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4323600" y="57913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едставьте результаты своей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Моделирование</a:t>
            </a:r>
            <a:r>
              <a:rPr b="1" i="1" lang="ru-RU" sz="5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Unicode MS"/>
              </a:rPr>
              <a:t>Работа в группа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Unicode MS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ть фрагмент собственного учебного занятия с применением формы групповой работы на основе предложенного материала по теме «Органы дыхания и газообмен» в 7 класс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Рефлекс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320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Monotype Corsiva"/>
              </a:rPr>
              <a:t>«Учитель никогда не должен забывать о том, какие дети в классе, как мыслит каждый его ученик, что будет ему легко, что трудно… Нужны разнообразные приёмы и методы обучения, чтобы вызвать интерес к учёбе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Unicode MS"/>
              </a:rPr>
              <a:t>(П.Н. Черн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Моё отнош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 Unicode MS"/>
              </a:rPr>
              <a:t>заинтересовало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 Unicode MS"/>
              </a:rPr>
              <a:t>увлекло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 Unicode MS"/>
              </a:rPr>
              <a:t>было познавательно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297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Monotype Corsiva"/>
              </a:rPr>
              <a:t>«Учитель никогда не должен забывать о том, какие дети в классе, как мыслит каждый его ученик, что будет ему легко, что трудно… Нужны разнообразные приёмы и методы обучения, чтобы вызвать интерес к учёбе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Unicode MS"/>
              </a:rPr>
              <a:t>(П.Н. Черн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3" descr=""/>
          <p:cNvPicPr/>
          <p:nvPr/>
        </p:nvPicPr>
        <p:blipFill>
          <a:blip r:embed="rId1"/>
          <a:stretch/>
        </p:blipFill>
        <p:spPr>
          <a:xfrm>
            <a:off x="152280" y="2341440"/>
            <a:ext cx="87663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Актуальность опы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обучающихся, которые по различным причинам оказываются не в состоянии за отведённое время и в необходимом объёме усвоить учебную программу, постоянно увеличив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успеваемость, возникающая на начальном этапе обучения, создаёт трудности для нормального развития ребёнка, так как, не овладев основными умственными операциями, обучающиеся не справляются с возрастающим объёмом знаний и на последующих этапах «выпадают» из процесса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6815160" y="2376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Цель опы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ормирование и развитие у обучающихся устойчивого познавательного интереса к предмету на основе активизации мыслительной деятельности школьников в ходе кропотливой, систематической работы по предме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120080" y="44928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Слабомотивированные обучающиес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учающиеся, которые имеют слабые учебные умения и навыки, низкий уровень памяти и внимания, у которых отсутствует желание учиться, которые испытывают трудности в обучении, в связи с эти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ТИПЫ НЕУСПЕВАЮЩИХ ШКОЛЬНИКОВ: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2480" y="1849320"/>
            <a:ext cx="8373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   Неуспевающие обучающиеся, для которых характерно низкое качество мыслительной деятельности при положительном отношении к учению и сохранении позиции школь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   Обучающиеся с относительно высоким уровнем развития мыслительной деятельности при отрицательном отношении к учению и частичной или полной утрате позиции школь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)    Неуспевающие, для которых характерно низкое качество мыслительной деятельности при отрицательном отношении к учению и полной утрате позиции школьника, проявляющееся в стремлении оставить школ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ПРИЧИНЫ НЕУСПЕВАЕМОСТИ: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статки биологического разви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фекты органов чув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матическая ослаблен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обенности высшей нервной деятель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сихологические отклон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достатки психического разви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абое развитие интеллект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абое развитие вол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абое развитие эмоциональной сферы лич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сутствие познавательных интерес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достатки воспитанности личнос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достатки в развитии моральных качеств лич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достатки в отношениях личности с учителем, коллективом, семьё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─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достатки в трудовом воспита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NW-Lehrlings"/>
          <p:cNvPicPr/>
          <p:nvPr/>
        </p:nvPicPr>
        <p:blipFill>
          <a:blip r:embed="rId1"/>
          <a:stretch/>
        </p:blipFill>
        <p:spPr>
          <a:xfrm>
            <a:off x="6095880" y="1960560"/>
            <a:ext cx="2880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Задач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 Развитие групповых и индивидуальных форм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Удовлетворение потребности в новой информации (широкая информированность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Формирование глубокого, устойчивого интереса к предме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Расширение кругозора обучающихся, их любозна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Развитие внимания, логического мышления, аккуратности, навыков самопроверки обучаю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 Возрождение желания ребёнка учить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228240"/>
            <a:ext cx="771552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5 КЛАСС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БИОЛОГИЯ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08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характеризуй природное сообщество по план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Что значит «природное сообщество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Из каких звеньев состоит природное сообществ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очему организмы объединяются в сообщ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К чему приводит совместная жизнь в природном сообществ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Приме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43434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1-12T10:02:47Z</dcterms:modified>
  <cp:revision>37</cp:revision>
  <dc:subject/>
  <dc:title>МАСТЕР-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