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4BD-AD1F-4390-8A1B-84C37C41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1A8-62AA-4103-A765-B8AAEFFD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704-A454-4D48-9359-C6434989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951-9D4B-4CB6-B761-05357D80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1149-3E31-4C6D-B907-BDF44AFB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BCD0-4491-4072-8C39-1D09A9C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BE2E-B64A-4E95-93A0-4CA7F23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2392-3FD9-4237-AE0A-B8A47D41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7493-7951-4721-A39B-C79BF97C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87ED-131D-45AC-891C-0BCF270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7EC0-2AAD-4FE1-8B87-F992B558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B1D-A53C-49D6-838C-45295298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B150-E1AB-4E8B-9A38-CD6AFC5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590A-BDA9-41BD-977C-F6911116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083-2015-4C8C-85E3-16F2673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EEE9-B2B9-4124-B569-31D6FEC3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EE28-DE86-4DC4-A21F-804CD0C2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A9A-9E6B-4C7A-8F31-D5C953EE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A77-2132-485A-8D6D-913804F9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571-296F-413F-BB7B-E98ED88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DD3-1AFA-4586-B31F-E9339F1F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452-71AD-46BA-999C-27420555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72A-BA69-4F9B-809C-70D5E2D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0C7-4082-4F3C-8977-41B51E0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73D-BC48-4AED-9796-73AA5F350A0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0AF9-C53F-4615-B9BA-C1B34677C50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00040" y="420840"/>
            <a:ext cx="8467920" cy="1993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143160" y="3786120"/>
            <a:ext cx="542952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642600"/>
            <a:ext cx="878544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Самое простое и самое короткое нравственное правило состоит в том, чтобы как можно меньше заставлять других служить себе и как можно больше служить други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бовать от других как можно меньше и давать другим как можно больше. Это правило, дающее нашему существованию разумный смысл и вытекающее из него счастье, разрешает все затруднени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887 году Л.Н.Толст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400" y="928440"/>
            <a:ext cx="871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азобщении по политическим и идейным мотива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гоизме (каждый сам по себе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те преступ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счезновении элементарной культуры повед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злоблении люд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трате идеологической и ценностной ориентаци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, что порвалась связь поколений и мн.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ша моральная проблема – это безразличие человека к самому себ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Э.Фромм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ловек – отражение своего внутреннего мира. Как человек мыслит, таков он и ест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Цицеро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71680" y="571320"/>
            <a:ext cx="85708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03640" indent="-378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 тропинке той, что шла к реке, под поникшей веткой тополиной,                                                                                                    Бился голубь в детском кулаке на виду у стаи голубиной.                                                                                                                                                         Бился голубь, голубь был живой, а его кормилец восьмилетний                                                                                                                     В пыль уткнулся мёртвой головой и закат в селе не видел летний.                                                                                                                                                   А закат был от пожаров рыж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ился голубь, как в тиски зажатый,                                                                                                                                                            Как хотел он взвиться выше крыш, как хотел взлететь к семье крылатой!                                                                                                                    Жизнь и смерть! Сплелись в один клубок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льчик был убит фашистской миной.                                                          Он лежал в пыли, а голубок сердцем рвался к стае голубино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мнению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.Кан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две основополагающие ценности – «звёздное небо над головой и моральный закон во мне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 u="sng">
              <a:solidFill>
                <a:srgbClr val="cc0066"/>
              </a:solidFill>
              <a:uFillTx/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69800" y="428760"/>
            <a:ext cx="734508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ете ли вы, что такое нравственность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нормы и правила, определяющие обязанности человека по отношению к обществу, вы могли бы назвать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1427040" y="268200"/>
            <a:ext cx="7472520" cy="402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onnected_multiple"/>
          <p:cNvPicPr/>
          <p:nvPr/>
        </p:nvPicPr>
        <p:blipFill>
          <a:blip r:embed="rId2"/>
          <a:stretch/>
        </p:blipFill>
        <p:spPr>
          <a:xfrm>
            <a:off x="3643200" y="3786120"/>
            <a:ext cx="33577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ра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переводе с латинского так и означает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рав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ра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истема норм и правил, определяющих обязанности человека по отношению к обществу, включает в себя общечеловеческие нормы: любовь к родине, трудолюбие, гуманизм, доброту, милосердие, честность, преданность, честь, достоинство, уважение к старшим и многое друг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14360" y="822240"/>
            <a:ext cx="8369280" cy="2384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85d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ука о нравственности называется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этикой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на говорит о том, как жить, какие поступки совершать, как относиться к людям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едине с самим собой поступать не так, как поступал бы на глазах люд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ениться и бездельничать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ыть жадным, корыстолюбивым, негостеприимны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ребовать у отца и матери того, что не заслужил трудо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цемерить, говорить не то, что думаешь и чувствуешь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вать пустые обещания, нарушать слово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искивать перед тем. Кто сильнее теб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шничать, доносить на товарищ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лодушничать, уходить от ответственности за свой поступо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ходить равнодушно мимо человеческой беды, гор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потреблять свою силу, физическое превосходство во зло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тупать перед опасностью из стремления сохранить покой, благополуч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лчать, когда надо говорить, и говорит, когда надо молчать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стословить, произносить всуе святые имен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меяться над увечным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любить и обижать животных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считаться с мнением родителей, не заботиться о ни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рошее считать обязательным – вот одно из самых мудрых правил воспитания нрав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сь нравственный закон в одном слове заключается: люби ближнего твоего, как самого себ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Апостол Паве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0:41:58Z</dcterms:created>
  <dc:creator>Родионова</dc:creator>
  <dc:description/>
  <dc:language>en-US</dc:language>
  <cp:lastModifiedBy>Библиотека</cp:lastModifiedBy>
  <dcterms:modified xsi:type="dcterms:W3CDTF">2016-09-27T05:39:24Z</dcterms:modified>
  <cp:revision>16</cp:revision>
  <dc:subject/>
  <dc:title>Тема: Правила и нормы поведения в обществе.</dc:title>
</cp:coreProperties>
</file>